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D32-A389-4A29-9EF1-AFB1F8BC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F81-ABFE-4D98-A866-E6ACDD92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2E3-D624-42C1-8445-E02A5FDC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B39-A2CD-495A-B90C-78EFBD12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7428-9306-4149-8EBD-9ADC11D3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540E-844F-4CC2-AB9F-F7324B4A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AAC4-5391-4667-9175-1666F36A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43D6-69AD-49E8-850E-C42EE72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9D05-6CF3-462D-A4B7-3ED170CE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95D8-8510-4DEF-BD4A-F95CD7B8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7332-BE01-429A-99DC-0B040387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9B8-891A-4BF6-AB7D-8055B6A4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5C92-FA6F-446D-9BC4-C98C64AA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213B-22CF-4650-A09C-39892B83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3AC5-C8A9-4CDD-9EB8-82DC0505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F379-D66B-47BC-8A46-A8579CED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B9AA-788E-44BB-8B13-E9B3326C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D54-F913-44DA-AD3C-CCD4B573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984-ABE1-48FA-8BCD-162F2D66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5F2-E28D-43CF-B9B4-BB478981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7EA-D26F-4A7C-9C88-7FE6111D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1D7-369C-41C4-A368-B1FBE338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C2E-AEAB-4648-A257-7A4EC2CB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0DC-BB69-4B19-A84C-0ADB86DC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FD51-64BE-4A94-8D18-5B403B288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C3B7-E12F-458B-9072-4E2716672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izarro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Conquistadors Conques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nda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the encounters between Cortez and Montez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the encounters between Pizarro and the In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the goals of the Spanish conquista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 the effects of European diseases, particularly smallpox, throughout the Wester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609480" y="609480"/>
            <a:ext cx="8076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ztec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763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ztec capital (Tenochtitlan) located on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a gruesome religion of human sacrifice to the g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located at central Ame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 were polytheistic  and mistook Cortez as a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57880" y="3314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57880" y="3314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144000" y="63244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19051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y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3200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located on the Yucatan Penins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so many major cites made them very hard to conqu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ajor cities coincided of; Tikal, Copan, Jaina, etc (et ceter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yan slaves could sometimes earn their freedom.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33526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c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as lived high up in the Andy‘s M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the largest pre Columbian civiliz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conquistadors arrived they were having civil w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ometimes sacrificed their lamas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rtez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tez captured the Aztec leader, Montezuma to soon kill hi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called Quetzalcoatl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te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native groups helped him conquer the Azte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67360" y="4419720"/>
            <a:ext cx="2276640" cy="2438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izarr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dnapped Atahualpa and held him for ransom for silver and go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ured Incas and claimed the land to call it “New Spain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ght with 180 men and 27 horses on his sid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422928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Happened Nex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many South Americans speak Span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tec, Mayan, and Inca religions have almost died ou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there are very few people that are part pre Columbi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14400" y="1828800"/>
            <a:ext cx="6934320" cy="37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END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54:42Z</dcterms:created>
  <dc:creator>jklib</dc:creator>
  <dc:description/>
  <dc:language>en-US</dc:language>
  <cp:lastModifiedBy>jklib</cp:lastModifiedBy>
  <dcterms:modified xsi:type="dcterms:W3CDTF">2011-11-30T16:28:07Z</dcterms:modified>
  <cp:revision>10</cp:revision>
  <dc:subject/>
  <dc:title>The Conquistador's Conquest</dc:title>
</cp:coreProperties>
</file>